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25FD-86BD-40CE-88EE-878DFA17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7E85-D590-45C9-B193-3F0A2DF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D68AB-5F26-4791-9EDF-C73D40E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1D7212-20FA-4182-BC7C-C0114AD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A8DBD-0705-4489-BB26-3E520395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C73A2E-7873-4905-86A5-984C0DF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EE0639-AC3D-4DD6-9A29-BF37413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3823F-9653-4E7A-B07E-D1D415B0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503B2-2C04-4F7F-9F1D-28E62F29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A2973-6096-4B14-9E4F-71B3C810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C8991B-C23F-4AD0-8B7A-A14DAEC9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31005-D721-4966-AA51-9372BEF9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7CA1-C463-4598-8240-169BF494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E7889-9D44-4EA7-905F-0DB10FE3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D498A7-76E2-4162-AA6F-2386644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2B7B16-3D94-4D20-82D8-D83FC332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859B2E-9E18-416C-A143-1BFFAFA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9B5F38-C04A-41C8-9647-300C9B3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0E5BB2-49AB-419A-9AC5-7B8EA64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343BEB-39D6-47FD-BF27-F474EB1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37C4D4-05CA-498D-BC2E-C96E3F3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D49C5F-1CC1-4887-91F4-796585E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8905B9-7AF9-4BF8-A590-6E67B1BA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37A5-ACAE-4A56-846C-4AC8876C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59508F-8864-4931-A33D-48664127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7E2D49-EC19-4079-95DE-394B2CA4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4FCF95-4E95-46A0-A77E-224660E7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B35121-15F9-4AA2-9C5C-FA426A9E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CF1CBD-C096-4E2C-820B-190FF916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3D9C5C-8617-45F1-8C39-D74AE468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0CDD7C-6D2A-47BB-B826-0BAECED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D57CC4-E886-4106-83BB-3DE1A64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681B9B-8C36-424F-A304-A8EE018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2AD1E-20E4-4CCE-AFE8-68C5458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BD02-D84A-4401-9532-D37245D9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80A52E-EF96-4BB3-8124-F1A28C7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FB68E-342B-4A50-8E29-A9DA9C7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0BCF2-E50A-462C-937C-C93A4D49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66C860-7903-45B7-B1BD-66724C1F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1E2C1F-0F97-4B2B-A593-7E3F861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02B383-7363-485F-BD93-ECCA5AB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D71C1B-3FD5-4B2B-8CA1-0A21939F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FF640E-7719-498B-851F-97156C52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A5EFE1-2DC9-42F0-B356-EA74FB2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AE356-7EB3-45F8-A560-903CEB2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0678-0B14-48B7-A79E-FE63E8E9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E49DBD-5742-4649-8CAA-FCEFB67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2025D5-05F7-4D45-AD50-E365BBA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E4783F-876B-4217-A4C0-4797287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7F7729-81A4-44FD-B500-4C09C21A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AA0578-0ABB-44C8-9ED6-52774EC4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8AAEC-BDE3-4D1D-A690-854448A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45F34-CA5A-426A-AB5D-B737209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9C6378-6AEB-428B-A2AA-E8779F6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7A58F6-529B-46C9-B6C7-FAE76DD3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B1A30-3719-472B-85BE-EA1784F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A5E3-D4F7-43C2-BF44-B267167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54668-1847-403F-85BB-EE5FA82F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57D418-D37D-49CC-B77C-7C2AE87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0C2B4-38DC-41B3-A58B-1EDAB15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84627F-F9F1-40EC-9150-4557656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ACA93-3583-40A3-97E1-AA1B60A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DD2DC-96F8-431A-A825-3895E159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1A52BD-16EC-478F-88D0-BEBC3A22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F9F-D90F-42C4-B082-EDC48FF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79ED-988E-4F9C-98F2-5D03D46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F071-F7B4-4DF4-81A4-C5435FB6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5114-D0A3-4E71-8CC3-AF6582D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0C3C-4276-4D28-97F8-4E3CDE84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AE7-116E-4E1F-86DD-D4D072B3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072E-B856-4D13-901A-8A5E014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E408-ABC2-450B-ADCD-101CBA7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98C-25CA-4B8A-83E6-A5F7898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A9A1-DAE8-4798-AD4B-EC77C7A7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CDC1B-3614-44DD-B5E5-6E313BA4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6C99B-435D-428C-917A-3424858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D13CB-9C14-4461-A3F7-AEA78458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B4056-F368-4254-A886-EED9367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C5479-EC28-448E-8308-874718B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2E06-9EEC-47A2-836F-9470160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85785-3157-4971-A45D-737FBED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CB4E4-0343-4B34-84FB-A5D7F80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4CFAC-0BDD-4AC0-8719-B27AF65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015B1-EA2E-430B-BAE2-57E3C27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70DF2-85C5-4C03-8AA6-96EF27A1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BC4FC-A06E-46A0-83D3-A62E85DD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A745B-6EB7-413D-832C-D08B83EE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0A83-FC1F-4F6F-84E9-A8F0B48D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1031-6B54-49BB-B521-0988DF8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7DD6-2CEA-4B07-A23C-D83EA9C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C652-BD52-40D2-8C81-7C85F56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6547-FF4A-4FA6-9B5D-5659BD66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740B-97F8-498C-92C5-339F5F2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AD39-D25B-4689-986A-6CF8F34A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18ED-3C17-4C0C-9919-B655F71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613F-4C6A-44ED-B663-A97F3AE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6870-C7AD-4CFB-AEA2-19957D7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5BB7-E677-443F-94BF-90BC974C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81DDB-1C29-4C51-91C4-12C638A5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7F97-53CC-44DF-942C-4BBA44DE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3CE97-4202-4D43-9E8C-D8B97A7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C502-482D-405C-9636-6ED993A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89B59-30C0-4F48-9D1C-3906E88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E0B9D-3ADB-4BDF-9451-2BBE98CD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58E62-982A-483B-9CD6-49ECFB4F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11F02-A549-488B-8143-484E9DEE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ED62E-1129-4720-B2F1-C64EE6B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5424F-2FF5-452C-AB50-6ED41CF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50A28-EF8B-44EB-BD8C-51FA0CB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1EB91-5C29-4031-B0A5-FF3DAB5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D9A71-526C-4828-B8D2-75812066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635E5-00FC-44C5-AA4B-0F1146A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6092-ACB6-4059-B7D9-43C3DEF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24A70-8E93-469C-9215-8FF81EB4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1093-3DB0-4EFE-B298-5B5F5DF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576D4-D26E-483A-A676-873640A8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B70C1-4F82-4091-AAA8-118143B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DC168-B7E3-4697-8689-679AB40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0E3E8-DDFF-4A16-B4AC-E5F9E6A8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68970-E598-40EA-8A31-0C8ECA34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86B82-3C37-4D37-8722-CB04870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FBAE9-A050-4577-A155-7D3F06B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57CB-2805-4AA7-9C8E-7FD3EF9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5E847-A2F0-4236-8630-289098A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05B67-CA07-411C-A2ED-38D9DFE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8A1C3-2213-4785-94A0-E2DA853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C3BF7-752D-4CD7-9F9F-1E0A59B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1B9A8-85BE-4F58-B77C-E6034769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D71D9-8277-4CFE-88CD-128BE056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E4732-CB6A-49CE-83E6-4A91EB2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7A8D8-D062-4420-8D1E-29C91B8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DDF6D-2484-44B4-9B6B-C918A19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1D673-FD51-46B4-AC09-E464054B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4987-070D-416F-AB39-76B066B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4C406-18B1-4B06-A509-D4EF932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9A4F1-51EE-4F20-AA28-C54A7BE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C773F-CB7A-42EB-9134-FF15F46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55778-D099-4D59-B82C-5AF14B3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3607B-1E1D-4BBC-AEFF-AE22537E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6FE52-E9BB-4065-983F-D42CADDD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AC30DD-64DD-425A-8F37-2444D33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5987B-C76B-4658-8A72-B88349A0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EF452-6DF6-4377-BA89-A06F0D3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61131-3C8A-456C-929C-A1104C7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C3B-056A-4EBB-88E1-41FB87C679E0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514-AF69-4754-98DB-BD01F9A1B92C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24F-C204-47A3-AC13-DFDC59C04CE0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8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9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DF5-4071-4F71-8A6C-F8BFBE347398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033-2380-4203-9CB3-82914203FE1C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68F5-42B9-4F07-9885-4D024E89892C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FE0-E827-4255-B78B-65AEE0062CDC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A248-8C7C-40C6-8EFB-506AD76C904E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163-EBF1-4EB5-B158-6F7C92CD93D2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4F20-D952-49CF-B85B-A57ACFD10E18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DCF-CD7F-4751-9015-A8D6A0928E92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502-4646-4B8E-BA15-A4A8F88EBDB8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350-9B6F-4A74-9D89-5948FC519C0D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D94-E259-448D-AB38-D27AA718A889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SlideBevel.png"/>
          <p:cNvPicPr/>
          <p:nvPr/>
        </p:nvPicPr>
        <p:blipFill>
          <a:blip r:embed="rId3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AB2-265C-430F-B185-5A5A3238A250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555-61B9-43FE-AD72-6659B4294BE3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C92-E43C-403C-8EDF-F19F09DA0826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1A6-DB28-47AE-9A11-B9DB5293A154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SectionHeader-Bevel.png"/>
          <p:cNvPicPr/>
          <p:nvPr/>
        </p:nvPicPr>
        <p:blipFill>
          <a:blip r:embed="rId3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3836-1AA6-4678-B722-1E83479237B4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B91-E090-40E5-B6FE-88C0B2EFDC7D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3D8B-B29E-4CB0-B403-CA585DB1840E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ComparisonBoxes.png"/>
          <p:cNvPicPr/>
          <p:nvPr/>
        </p:nvPicPr>
        <p:blipFill>
          <a:blip r:embed="rId4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omparisonBoxes.png"/>
          <p:cNvPicPr/>
          <p:nvPr/>
        </p:nvPicPr>
        <p:blipFill>
          <a:blip r:embed="rId5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A8D-CD71-4D27-A850-EFE911FB24EB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5DB-3965-4585-AA89-76DD81CE383D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9C31-101D-4455-9937-1A7143A5A26C}" type="datetime">
              <a:rPr b="0" lang="en-US" sz="1800" spc="-1" strike="noStrike">
                <a:solidFill>
                  <a:srgbClr val="a8aeb5"/>
                </a:solidFill>
                <a:latin typeface="Times New Roman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179-2DEE-4CBF-A8A7-8EBA5B6E5AAA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2" descr=""/>
          <p:cNvPicPr/>
          <p:nvPr/>
        </p:nvPicPr>
        <p:blipFill>
          <a:blip r:embed="rId2"/>
          <a:stretch/>
        </p:blipFill>
        <p:spPr>
          <a:xfrm>
            <a:off x="341280" y="378000"/>
            <a:ext cx="8352000" cy="744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D:\C21 PowerPoint\Multi_Journal\art for blue\Ch21\Ch21-04a.jpg"/>
          <p:cNvPicPr/>
          <p:nvPr/>
        </p:nvPicPr>
        <p:blipFill>
          <a:blip r:embed="rId3"/>
          <a:srcRect l="5598" t="8429" r="0" b="63469"/>
          <a:stretch/>
        </p:blipFill>
        <p:spPr>
          <a:xfrm>
            <a:off x="457200" y="1143000"/>
            <a:ext cx="8229600" cy="2930400"/>
          </a:xfrm>
          <a:prstGeom prst="rect">
            <a:avLst/>
          </a:prstGeom>
          <a:ln w="0">
            <a:noFill/>
          </a:ln>
        </p:spPr>
      </p:pic>
      <p:sp>
        <p:nvSpPr>
          <p:cNvPr id="551" name="Oval 5"/>
          <p:cNvSpPr/>
          <p:nvPr/>
        </p:nvSpPr>
        <p:spPr>
          <a:xfrm>
            <a:off x="380880" y="2286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553080" y="3352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57200" y="451152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move the original cost of the plant asset and its related accumulated depreciation. Record the cash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457200" y="54864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D:\C21 PowerPoint\Multi_Journal\art for blue\Ch21\Ch21-04b.jpg"/>
          <p:cNvPicPr/>
          <p:nvPr/>
        </p:nvPicPr>
        <p:blipFill>
          <a:blip r:embed="rId3"/>
          <a:srcRect l="18182" t="0" r="0" b="62289"/>
          <a:stretch/>
        </p:blipFill>
        <p:spPr>
          <a:xfrm>
            <a:off x="457200" y="1554120"/>
            <a:ext cx="6248520" cy="3844800"/>
          </a:xfrm>
          <a:prstGeom prst="rect">
            <a:avLst/>
          </a:prstGeom>
          <a:ln w="0">
            <a:noFill/>
          </a:ln>
        </p:spPr>
      </p:pic>
      <p:sp>
        <p:nvSpPr>
          <p:cNvPr id="558" name="Oval 5"/>
          <p:cNvSpPr/>
          <p:nvPr/>
        </p:nvSpPr>
        <p:spPr>
          <a:xfrm>
            <a:off x="4419720" y="22399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6553080" y="2392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590400" y="622620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Section 3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590400" y="5487840"/>
            <a:ext cx="61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the depreciation expens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90400" y="58532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he accumulated depreciation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2"/>
          <p:cNvGrpSpPr/>
          <p:nvPr/>
        </p:nvGrpSpPr>
        <p:grpSpPr>
          <a:xfrm>
            <a:off x="2438280" y="2620800"/>
            <a:ext cx="2895840" cy="2210040"/>
            <a:chOff x="2438280" y="2620800"/>
            <a:chExt cx="2895840" cy="2210040"/>
          </a:xfrm>
        </p:grpSpPr>
        <p:sp>
          <p:nvSpPr>
            <p:cNvPr id="564" name="Line 11"/>
            <p:cNvSpPr/>
            <p:nvPr/>
          </p:nvSpPr>
          <p:spPr>
            <a:xfrm flipH="1">
              <a:off x="2438280" y="2620800"/>
              <a:ext cx="289584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6"/>
            <p:cNvSpPr/>
            <p:nvPr/>
          </p:nvSpPr>
          <p:spPr>
            <a:xfrm>
              <a:off x="4038480" y="31543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3236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3"/>
          <p:cNvSpPr/>
          <p:nvPr/>
        </p:nvSpPr>
        <p:spPr>
          <a:xfrm>
            <a:off x="7344360" y="65826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242560" cy="1128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D:\C21 PowerPoint\Multi_Journal\art for blue\Ch21\Ch21-04c.jpg"/>
          <p:cNvPicPr/>
          <p:nvPr/>
        </p:nvPicPr>
        <p:blipFill>
          <a:blip r:embed="rId3"/>
          <a:srcRect l="4537" t="0" r="0" b="68829"/>
          <a:stretch/>
        </p:blipFill>
        <p:spPr>
          <a:xfrm>
            <a:off x="457200" y="1859040"/>
            <a:ext cx="8229600" cy="2932200"/>
          </a:xfrm>
          <a:prstGeom prst="rect">
            <a:avLst/>
          </a:prstGeom>
          <a:ln w="0">
            <a:noFill/>
          </a:ln>
        </p:spPr>
      </p:pic>
      <p:sp>
        <p:nvSpPr>
          <p:cNvPr id="569" name="Oval 5"/>
          <p:cNvSpPr/>
          <p:nvPr/>
        </p:nvSpPr>
        <p:spPr>
          <a:xfrm>
            <a:off x="45720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6553080" y="4068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57200" y="522756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an entry to remove asset, record gain, and record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457200" y="58975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344360" y="68875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4, page 5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2"/>
          <a:stretch/>
        </p:blipFill>
        <p:spPr>
          <a:xfrm>
            <a:off x="450720" y="396720"/>
            <a:ext cx="8242560" cy="1121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D:\C21 PowerPoint\Multi_Journal\art for blue\Ch21\Ch21-04d.jpg"/>
          <p:cNvPicPr/>
          <p:nvPr/>
        </p:nvPicPr>
        <p:blipFill>
          <a:blip r:embed="rId3"/>
          <a:srcRect l="4537" t="0" r="0" b="72515"/>
          <a:stretch/>
        </p:blipFill>
        <p:spPr>
          <a:xfrm>
            <a:off x="457200" y="1706400"/>
            <a:ext cx="8229600" cy="2638440"/>
          </a:xfrm>
          <a:prstGeom prst="rect">
            <a:avLst/>
          </a:prstGeom>
          <a:ln w="0">
            <a:noFill/>
          </a:ln>
        </p:spPr>
      </p:pic>
      <p:sp>
        <p:nvSpPr>
          <p:cNvPr id="576" name="Oval 5"/>
          <p:cNvSpPr/>
          <p:nvPr/>
        </p:nvSpPr>
        <p:spPr>
          <a:xfrm>
            <a:off x="380880" y="2849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6934320" y="36878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323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457200" y="50752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an entry to dispose of the asset, record a loss on plant assets, and record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57200" y="57452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 Section 2 of the plant asset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00:47:27Z</cp:lastPrinted>
  <dcterms:modified xsi:type="dcterms:W3CDTF">2011-10-17T22:18:49Z</dcterms:modified>
  <cp:revision>63</cp:revision>
  <dc:subject/>
  <dc:title>ADJUSTING ENTRY FOR SUPPLIES</dc:title>
</cp:coreProperties>
</file>